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99A4-38BE-4598-BA0A-32459EB52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2C39-5121-48D6-AF5F-85FFD2A4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B89A-ABEB-4FFA-98AC-40A9ACC5E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6C1A-16D3-47B6-8EBD-E33B0F48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9B41-9006-4F81-B644-6F95EBFC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8A7F-E942-4347-90D4-FAB7BFAF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8206-115D-4289-BA7D-ED17D52F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DCB4-F107-45AC-8199-83606780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A6DB-FB73-47EB-A1F8-AB4E5A05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FEE9-9B2C-4B72-9FEE-A167B5AA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DF81-F2D2-4CFF-89F1-24F0AC4F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E39D-3FCB-4914-A248-B08C7FCF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AFD3-3EC0-4224-B33E-56081CEF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1BA0-386B-4383-8948-E26AA9F4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DFF7-E3FB-4CC7-BAD2-7C5D1E86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E495-B2A3-4787-AD5A-4EB4C56F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3249-C5F9-4370-A98D-7CD829BFB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4DFB-C577-4165-9C23-3C3EC1A4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5C21-A1F1-4631-B662-A36AD97C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17F2-E704-42A4-BA39-D72D9CE5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415D-7079-4453-849B-CC0557A3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E12C-73E3-4B8E-B1B8-4154D019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3E57-AFD6-498A-BC13-7647E6A4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3071-BCBB-4C2E-B590-BB59E862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8548-485E-4DFE-A89D-ABCF275B1651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8790-88C4-4795-B3BC-A7F7FF68D51C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WWII Banzai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Zachariah Paul Konieczny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Banzai means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Japanese war cry during WWII, meaning “Long live the Emperor”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Japanese  motivational cry used before wars,  and even friendly games of sports such as baseball and football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bush that originates from Japan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10,000 years of life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company that makes children's toy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ome of the battles that banzai charges were used in are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Battle of Waterlo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Battle of Attu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Battle of Okinaw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Battle of Iwo Jima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he Japanese did banzai charges because/when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It followed their code of honor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ey thought: “It is better to die an honorable man than to live with no honor.”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ey ran out of ammo for their weapon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Battles that  the Japanese lost due to banzai charges are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Battle of Iwo Jim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Battle of Attu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Banzai today.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Banzai is still said today for games and things of that nature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It is said three times in a row, with whoever is saying it raising their arm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he End :{D.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24382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20574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46:39Z</dcterms:created>
  <dc:creator>Zach</dc:creator>
  <dc:description/>
  <dc:language>en-US</dc:language>
  <cp:lastModifiedBy>Zach</cp:lastModifiedBy>
  <dcterms:modified xsi:type="dcterms:W3CDTF">2010-12-16T13:45:00Z</dcterms:modified>
  <cp:revision>8</cp:revision>
  <dc:subject/>
  <dc:title>WWII Banzai</dc:title>
</cp:coreProperties>
</file>